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8D0B-2327-4C0B-939E-9069174E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0BF6-023E-441C-B290-86A72393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EF89-48C4-40A2-8E3B-CB30A97C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637F-D50B-4D14-AC72-A650C277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A81C-89F9-49FC-9DDD-7F2B8944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07D6-A0B4-4907-8C56-10751EDA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71D9-5FC9-41AD-8368-7D475F8D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CABC-BE80-438B-9FA3-4BD34844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7DE4-CCDE-47BD-B32F-22DC3627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AE12-D734-4B48-A2B1-8526387C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3BBE-6780-415A-9717-6F4ECFA1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884D-997B-424E-A2E1-AAF9FC30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25E9-1FB3-4BA4-AD92-D7E6235C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8D34-2C09-483F-AD13-EF8BF2BB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9D90-D204-4344-BB9F-B73FEB0C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FBCE-04A0-4B34-9AFC-5CDBF2DB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2124-6557-4962-9B26-3DD3B73C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EA23-8898-4EC6-B18D-EF8D0757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D2BB-7031-40DF-ADF3-DAFB8F8F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7559-BF27-4BCB-A408-E5F3B761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C735-5BE5-491E-9F56-ECE5F994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9047-372E-47D6-9789-1AE37CE9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48F3-602C-4FF3-BC96-FB9D6267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D6C1-6EF2-4159-8EB2-5FAE43B4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EFF6-76F1-4329-9644-758C6596F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CEF8-58E0-4867-A4F1-904258C77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Мультимедиа урок на тему «Фронтовой концерт», посвященный  70-летию Победы 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в Великой Отечественной во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7d"/>
                </a:solidFill>
                <a:latin typeface="Georgia"/>
              </a:rPr>
              <a:t>ФРОНТОВО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7d"/>
                </a:solidFill>
                <a:latin typeface="Georgia"/>
              </a:rPr>
              <a:t>КОНЦЕ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99"/>
                </a:solidFill>
                <a:latin typeface="Georgia"/>
              </a:rPr>
              <a:t>Помнит Вена, помнят Альпы и Дуна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90560" cy="2247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633400" cy="2819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72200" y="1066680"/>
            <a:ext cx="2703600" cy="2819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04920" y="3581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724280" y="3581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Этот день мы приближали, как мог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Этот День Поб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Порохом пропа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572000" cy="326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43400" y="1219320"/>
            <a:ext cx="45720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Georgia"/>
              </a:rPr>
              <a:t>Это радость со слезами на глаза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724640" cy="3270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0" y="3086280"/>
            <a:ext cx="43434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03d7"/>
                </a:solidFill>
                <a:latin typeface="Georgia"/>
              </a:rPr>
              <a:t>Марш «Прощание Славян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191120" cy="279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362320" y="3352680"/>
            <a:ext cx="3429000" cy="319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10666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Вставай, страна огромн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271520"/>
            <a:ext cx="4190760" cy="3241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24280" y="1311120"/>
            <a:ext cx="4038840" cy="3224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3322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Georgia"/>
              </a:rPr>
              <a:t>Отдых после б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Ю. Непринцев, репродукция картины «Отдых после бо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Georgia"/>
              </a:rPr>
              <a:t>В редкие минуты ти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Артисты сво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веселыми выступл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подним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солдатам бо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114800" cy="3141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724280" y="4419720"/>
            <a:ext cx="3733920" cy="2239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39621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Georgia"/>
              </a:rPr>
              <a:t>Кавалеристы – шашки нагол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572000" cy="3417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49528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Georgia"/>
              </a:rPr>
              <a:t>Песня о маленьком труба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191120" cy="2357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4572000" cy="3279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3276720" cy="2935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257800" y="1193760"/>
            <a:ext cx="2438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c03d7"/>
                </a:solidFill>
                <a:latin typeface="Georgia"/>
              </a:rPr>
              <a:t>Клавдия Шульж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03d7"/>
                </a:solidFill>
                <a:latin typeface="Georgia"/>
              </a:rPr>
              <a:t>«Синий платочек»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03d7"/>
                </a:solidFill>
                <a:latin typeface="Georgia"/>
              </a:rPr>
              <a:t>одна из самых люби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03d7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1c03d7"/>
                </a:solidFill>
                <a:latin typeface="Georgia"/>
              </a:rPr>
              <a:t>песен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4343400" cy="300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4120" y="4030560"/>
            <a:ext cx="2590560" cy="2546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00600" y="1219320"/>
            <a:ext cx="380988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c0889"/>
                </a:solidFill>
                <a:latin typeface="Georgia"/>
              </a:rPr>
              <a:t>Любимый город может спать спокойно! Леонид Утё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c0889"/>
                </a:solidFill>
                <a:latin typeface="Arial"/>
              </a:rPr>
              <a:t>Леонид Утесов со своим джазов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c0889"/>
                </a:solidFill>
                <a:latin typeface="Arial"/>
              </a:rPr>
              <a:t>оркестром дали стони фронт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c0889"/>
                </a:solidFill>
                <a:latin typeface="Arial"/>
              </a:rPr>
              <a:t>концерт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33560" cy="2797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2762280" cy="3181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429000" y="3505320"/>
            <a:ext cx="457200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Вечный огонь – вечная слав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19720" y="3532320"/>
            <a:ext cx="4495680" cy="2984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05:16:20Z</dcterms:created>
  <dc:creator>1</dc:creator>
  <dc:description/>
  <dc:language>en-US</dc:language>
  <cp:lastModifiedBy>Комп</cp:lastModifiedBy>
  <dcterms:modified xsi:type="dcterms:W3CDTF">2015-03-17T08:34:57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